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70A-F0AE-4796-B98B-5D61D0E1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A85-7386-4156-82CA-936D59FD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331-2A88-4CE2-849A-224BAC11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42C-BEDB-484E-970D-8C196E88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01D-5CC1-4D73-A9CE-CE516D55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AB2-8D32-40D7-B4DF-799A2336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C6E-AF37-4C32-9390-288ADEC9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571-4E45-4B8D-B14D-760DF3D5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CC7-13DA-42A6-B5B9-E88552B2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7DB-4D60-4EED-8E98-4C5A89C5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C78-ADF9-4238-8A50-7C1D3DE0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809-98A4-48A9-8130-89AFAB99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C812-119B-4BDA-9AFE-40CEB972F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2/Int 1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25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Nov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2050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explanatio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of your strengths and weakness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Questi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2050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s a result of analysing your data give a detailed explanation of your development needs 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197000"/>
            <a:ext cx="845820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Complete questions 3 and 4 on lined A4 paper. Make sure that you are very detailed in your answers and write very nea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Write down the question before you answ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Use the wikipage to recap what we have covered and to see schedules. (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wikispaces.com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) (int2-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Due date – Wednesday 2</a:t>
            </a:r>
            <a:r>
              <a:rPr b="0" i="1" lang="en-GB" sz="2800" spc="-1" strike="noStrike" baseline="30000">
                <a:solidFill>
                  <a:srgbClr val="ffff00"/>
                </a:solidFill>
                <a:latin typeface="Comic Sans MS"/>
              </a:rPr>
              <a:t>nd</a:t>
            </a:r>
            <a:r>
              <a:rPr b="0" i="1" lang="en-GB" sz="28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1-25T11:53:29Z</dcterms:modified>
  <cp:revision>27</cp:revision>
  <dc:subject/>
  <dc:title>Intermediate PE</dc:title>
</cp:coreProperties>
</file>